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0DF9-3E13-48FF-8E34-B0FD621A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68AF-8463-48F2-A745-019FACFA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4494-2358-4BB0-B33B-F4D6D3EB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7F72-9211-45C1-9502-652D852B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5253-BC14-49B3-8D73-6E8E4FE8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F54E-C406-4DCB-91CA-4D065CE1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35BA-CF06-4C85-8C62-5F7C8E4B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A7DD-0B6E-4DB8-9B76-9FE8C35D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EE09-F956-4AAC-8613-4979C6E3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7703-355D-4C0A-B299-7FBFE72D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2A10-E403-4DE6-AF39-0C138787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A39D-08A5-4009-8FB9-6617A268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6ABB-51BE-4966-B0B5-03DC25F0B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28760" y="1974960"/>
            <a:ext cx="4686480" cy="2914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8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3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7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8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3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28760" y="1965240"/>
            <a:ext cx="4686480" cy="2933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8760" y="1974960"/>
            <a:ext cx="4686480" cy="2914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7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2:25:37Z</dcterms:created>
  <dc:creator>Mark S. Spencer</dc:creator>
  <dc:description/>
  <dc:language>en-US</dc:language>
  <cp:lastModifiedBy>Mark S. Spencer</cp:lastModifiedBy>
  <dcterms:modified xsi:type="dcterms:W3CDTF">2008-12-06T16:20:46Z</dcterms:modified>
  <cp:revision>20</cp:revision>
  <dc:subject/>
  <dc:title>Slide 1</dc:title>
</cp:coreProperties>
</file>